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E58-3793-4691-8475-1BE6416FBF3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 definition and describe the purpose and key characteristics of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wo types of action research and three levels at which it can be condu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steps and common techniques used to carry out action research in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ing and gaining insight into an area of fo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self-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descriptive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insight through explanatory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ng, analyzing, and interpre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of data collected for an action research study is determined by the nature of th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 in action research may be idiosyncrat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data often drives action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tative data, when used, are often reported through the use of descriptive statis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searchers share their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bally and in writt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planning includes deciding what steps, if any, need to be taken to benefit pract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search often leads to new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n education is any systematic inquiry conducted by teachers, principals, school counselors, or other stakehol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ction research, information is gathered to gain insight, develop reflective practice, and to effect positive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provides teacher researchers with a method for solving everyday problems in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ncorporates a reflective stance in a teacher’s daily routi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contributes to the professional stance that teachers ado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encourages and empowers teachers to take risks and make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persuasive and author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relev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acce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challenges intractability of reform of the educational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not a f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oal of critical action research is to liberate individuals through knowledge gathering.  Critical action research is also called emancipatory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cratic: Enables participation of all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table: Acknowledges people’s equality of w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erating: Provides freedom from oppressive, debilitating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ing: Enables expression of people’s pot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al action research emphasizes a how-to approach to action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s are autonomous and can determine the nature of investig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esearchers are committed to professional development and school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s are decision makers and will choose their own areas of focus, determine data collection techniques, analyze and interpret the data, and develop action plans on their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s of ac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chool or department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teacher groups or t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a common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ions between faculty and university-based researc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s of ac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wide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school community identifies a common focused 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teacher 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teacher’s own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on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ction research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alectic action research spi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an area of foc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4:03:33Z</dcterms:modified>
  <cp:revision>82</cp:revision>
  <dc:subject/>
  <dc:title>AutoCAD Architecture 2008: Part I: Getting Started</dc:title>
</cp:coreProperties>
</file>